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C6F7B-AE6A-43E8-9BDF-CE92CB828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45F5A-B346-4960-9E3A-5F1478A49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17C6B-E120-4EDB-9E01-B1775EDF6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92DD8-07B5-46FF-986A-00E74BE40E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6E054-A9EE-4B7D-9392-DFFC818963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27759-C560-4795-97CE-F174B78A6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E9F58-1C3D-431F-BF2B-08AC7A0B2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12F31-3F27-4617-BB58-A1CF8B49A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ED840-7C3B-434F-A822-AFAB390B9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BCFE7-2466-442A-A74C-C98B6AFB8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5D4CF-F157-48A6-9402-E47C6B3B4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0C651-5C67-4480-B1DB-E48804FE8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40D7-8603-4AA8-B968-BE5F5141E1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PC&#35828;&#26126;&#20070;.pdf" TargetMode="External"/><Relationship Id="rId2" Type="http://schemas.openxmlformats.org/officeDocument/2006/relationships/hyperlink" Target="file:///OPC&#35828;&#26126;&#20070;.pdf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79640" y="2181240"/>
            <a:ext cx="70866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E FOR PROCESS CONTRO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作为一种标准的通讯协议，被广大客户接受，并采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KHOF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本着开放的通讯理念，同样提供可作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设备通讯方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05600" y="1573200"/>
            <a:ext cx="1184400" cy="405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hlinkClick r:id="rId1"/>
              </a:rPr>
              <a:t>OPC</a:t>
            </a:r>
            <a:r>
              <a:rPr b="0" lang="zh-CN" sz="1800" spc="-1" strike="noStrike" u="sng">
                <a:solidFill>
                  <a:srgbClr val="080808"/>
                </a:solidFill>
                <a:uFillTx/>
                <a:latin typeface="Arial"/>
                <a:hlinkClick r:id="rId2"/>
              </a:rPr>
              <a:t>文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BD97C-DD02-4E71-8BFB-6D9D819456F8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2480" y="126216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、选中需要发布的变量，窗口下面的五个选项全部打实勾。然后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退出该窗体，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中也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退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。重新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build 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重新保存程序。这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产生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类型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49480" y="2482920"/>
            <a:ext cx="4986360" cy="4241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86200" y="5246640"/>
            <a:ext cx="1360440" cy="920880"/>
          </a:xfrm>
          <a:prstGeom prst="wedgeRoundRectCallout">
            <a:avLst>
              <a:gd name="adj1" fmla="val -159453"/>
              <a:gd name="adj2" fmla="val 3965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五个选项全部选中，注意全部打实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00240" y="5810400"/>
            <a:ext cx="309600" cy="930240"/>
          </a:xfrm>
          <a:prstGeom prst="wedgeEllipseCallout">
            <a:avLst>
              <a:gd name="adj1" fmla="val 12050"/>
              <a:gd name="adj2" fmla="val 1877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3657600"/>
            <a:ext cx="1952640" cy="1079640"/>
          </a:xfrm>
          <a:prstGeom prst="wedgeRoundRectCallout">
            <a:avLst>
              <a:gd name="adj1" fmla="val -75365"/>
              <a:gd name="adj2" fmla="val -5956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全部选中则发布所有变量。若只发布全局变量，则只需选中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Global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B8AA7-9813-48F1-8E9E-1FEFD8EA358D}" type="slidenum">
              <a:t>10</a:t>
            </a:fld>
          </a:p>
        </p:txBody>
      </p:sp>
    </p:spTree>
  </p:cSld>
  <p:transition spd="med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Choose Run-Time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6200" y="1693800"/>
            <a:ext cx="5924520" cy="500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47A14-3E96-4814-B5BC-B47B538B5392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一、选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的系统，这里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-Time 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80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46280" y="2104920"/>
            <a:ext cx="5025960" cy="31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4812E-45AB-44EC-B947-3F92616CE343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二、先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登录，然后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起来，这时可看到右下角的绿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9800" y="1855800"/>
            <a:ext cx="7724880" cy="497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36520" y="3157560"/>
            <a:ext cx="1011240" cy="652320"/>
          </a:xfrm>
          <a:prstGeom prst="wedgeRoundRectCallout">
            <a:avLst>
              <a:gd name="adj1" fmla="val 4629"/>
              <a:gd name="adj2" fmla="val -16459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25880" y="3100320"/>
            <a:ext cx="1119240" cy="733320"/>
          </a:xfrm>
          <a:prstGeom prst="wedgeRoundRectCallout">
            <a:avLst>
              <a:gd name="adj1" fmla="val -186597"/>
              <a:gd name="adj2" fmla="val -14653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ogin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88400" y="6442200"/>
            <a:ext cx="538200" cy="403200"/>
          </a:xfrm>
          <a:prstGeom prst="wedgeEllipseCallout">
            <a:avLst>
              <a:gd name="adj1" fmla="val -29648"/>
              <a:gd name="adj2" fmla="val 3661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99A4A-B4EA-4A52-A13F-39E985685C18}" type="slidenum">
              <a:t>13</a:t>
            </a:fld>
          </a:p>
        </p:txBody>
      </p:sp>
    </p:spTree>
  </p:cSld>
  <p:transition spd="med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7280" y="1262160"/>
            <a:ext cx="80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三、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安装目录下的文件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TwinCAT\OPC\Server4\Samp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将文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拷贝一份到自定的文件夹中，例如放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所在的路径下，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。由于需要修改此文件，拷贝一份去修改以保持模板不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3440" y="2376360"/>
            <a:ext cx="5767200" cy="3819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371840" y="4079880"/>
            <a:ext cx="1103400" cy="361800"/>
          </a:xfrm>
          <a:prstGeom prst="wedgeEllipseCallout">
            <a:avLst>
              <a:gd name="adj1" fmla="val -1078"/>
              <a:gd name="adj2" fmla="val -6138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34746-75EB-43DA-8BB0-5F7BAAAE4172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四、以记事本方式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，修改此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7360" y="1609560"/>
            <a:ext cx="7829280" cy="5153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046160" y="4468680"/>
            <a:ext cx="6505560" cy="1729080"/>
          </a:xfrm>
          <a:prstGeom prst="wedgeRoundRectCallout">
            <a:avLst>
              <a:gd name="adj1" fmla="val -29356"/>
              <a:gd name="adj2" fmla="val 39347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95920" y="4513320"/>
            <a:ext cx="1522440" cy="1015920"/>
          </a:xfrm>
          <a:prstGeom prst="wedgeRoundRectCallout">
            <a:avLst>
              <a:gd name="adj1" fmla="val -48851"/>
              <a:gd name="adj2" fmla="val 2218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由于只发布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un-Time 1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的变量，所以这部分删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1560" y="2894040"/>
            <a:ext cx="7043760" cy="1500120"/>
          </a:xfrm>
          <a:prstGeom prst="wedgeRoundRectCallout">
            <a:avLst>
              <a:gd name="adj1" fmla="val -29805"/>
              <a:gd name="adj2" fmla="val 50212"/>
              <a:gd name="adj3" fmla="val 16667"/>
            </a:avLst>
          </a:prstGeom>
          <a:noFill/>
          <a:ln w="9360">
            <a:solidFill>
              <a:srgbClr val="0b38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54640" y="2989440"/>
            <a:ext cx="1144440" cy="639720"/>
          </a:xfrm>
          <a:prstGeom prst="wedgeRoundRectCallout">
            <a:avLst>
              <a:gd name="adj1" fmla="val -29611"/>
              <a:gd name="adj2" fmla="val 4156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对这部分进行修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55F2-75B6-44DB-89F0-3DDF1918F048}" type="slidenum">
              <a:t>15</a:t>
            </a:fld>
          </a:p>
        </p:txBody>
      </p:sp>
    </p:spTree>
  </p:cSld>
  <p:transition spd="med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五、修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9200" y="1822320"/>
            <a:ext cx="8794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ev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Plc1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escription&gt;Plc Runtime system 1&lt;/Descrip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dsNetId&gt;0.0.0.0.0.0&lt;/AdsNetI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dsPort&gt;801&lt;/AdsPor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--AutoCfg = 1: Check "AutoCfgSymFile" and parse Symbol-File of PLC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utoCfg&gt;1&lt;/AutoCfg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utoCfgSymFile&gt;C:\TcOpcDemo\Versions\4.0.0.1\SampleLocal\opctest.sym &lt;/AutoCfgSymFi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Dev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92960" y="4081320"/>
            <a:ext cx="598932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修改内容说明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可自定设备名，例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也可使用确省的名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对设备的注释，不必修改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sNet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填写设备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本机可使用确省的设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.0.0.0.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sPor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设备的端口号。不同设备的端口号不同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-Time 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端口号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Cfg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对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机，此处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设备不同此处添加的内容不同，对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90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则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CfgSymFi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要发布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程序的路径以及名称，此处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\Intouch\plcOPC.sy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600" y="1816200"/>
            <a:ext cx="8377200" cy="20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6200" y="4000680"/>
            <a:ext cx="8377200" cy="21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187D1-4F81-4363-A088-664632C2D04C}" type="slidenum">
              <a:t>16</a:t>
            </a:fld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六、修改后要保存文件，修改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74800" y="1930320"/>
            <a:ext cx="7350120" cy="43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B0A5C-E376-4636-97EA-AC4DC5A4C0A7}" type="slidenum">
              <a:t>17</a:t>
            </a:fld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280" y="1262160"/>
            <a:ext cx="80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七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 Configur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OPC Configur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4440" y="1928880"/>
            <a:ext cx="8115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399AE-6E3B-4153-997A-F1807B9A50FC}" type="slidenum">
              <a:t>18</a:t>
            </a:fld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八、点击左侧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修改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，打开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80960" y="2027160"/>
            <a:ext cx="7148520" cy="448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58960" y="4395960"/>
            <a:ext cx="1011240" cy="652320"/>
          </a:xfrm>
          <a:prstGeom prst="wedgeRoundRectCallout">
            <a:avLst>
              <a:gd name="adj1" fmla="val -75115"/>
              <a:gd name="adj2" fmla="val -1215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OPC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79760" y="4140360"/>
            <a:ext cx="1374840" cy="855360"/>
          </a:xfrm>
          <a:prstGeom prst="wedgeRoundRectCallout">
            <a:avLst>
              <a:gd name="adj1" fmla="val -74365"/>
              <a:gd name="adj2" fmla="val 1196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选中修改的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cOpcSvrCfg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文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40320" y="4138560"/>
            <a:ext cx="1011240" cy="652680"/>
          </a:xfrm>
          <a:prstGeom prst="wedgeRoundRectCallout">
            <a:avLst>
              <a:gd name="adj1" fmla="val 57694"/>
              <a:gd name="adj2" fmla="val 15073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打开按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3D9C5-9F8C-4276-BDDB-12BEEA8BEE74}" type="slidenum">
              <a:t>19</a:t>
            </a:fld>
          </a:p>
        </p:txBody>
      </p:sp>
    </p:spTree>
  </p:cSld>
  <p:transition spd="med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6120" y="2008080"/>
            <a:ext cx="6168960" cy="5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95560" y="2930400"/>
            <a:ext cx="2359080" cy="3551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52480" y="1262160"/>
            <a:ext cx="65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点击桌面右下角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菜单中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99400" y="2770200"/>
            <a:ext cx="414360" cy="365040"/>
          </a:xfrm>
          <a:prstGeom prst="wedgeEllipseCallout">
            <a:avLst>
              <a:gd name="adj1" fmla="val -151148"/>
              <a:gd name="adj2" fmla="val -1543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05440" y="4114800"/>
            <a:ext cx="430200" cy="392040"/>
          </a:xfrm>
          <a:prstGeom prst="wedgeEllipseCallout">
            <a:avLst>
              <a:gd name="adj1" fmla="val -259592"/>
              <a:gd name="adj2" fmla="val -130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E9828-63BF-466F-9879-3AD6DC075DA8}" type="slidenum">
              <a:t>2</a:t>
            </a:fld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280" y="1262160"/>
            <a:ext cx="801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九、弹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successfully activate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息窗口，点击确定。至此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发布完毕。现在可以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 Test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进行测试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186000" y="2847960"/>
            <a:ext cx="2772000" cy="11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40A9E-699B-4835-A36C-9C9137BF9B0C}" type="slidenum">
              <a:t>20</a:t>
            </a:fld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49440" y="2660760"/>
            <a:ext cx="434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991A1-01BB-4608-AE34-748D02E3B876}" type="slidenum">
              <a:t>21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06800" y="5513400"/>
            <a:ext cx="794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5680" y="1824120"/>
            <a:ext cx="84265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073480" y="2769480"/>
            <a:ext cx="760680" cy="560520"/>
          </a:xfrm>
          <a:prstGeom prst="wedgeRoundRectCallout">
            <a:avLst>
              <a:gd name="adj1" fmla="val -117018"/>
              <a:gd name="adj2" fmla="val 7974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激活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0200" y="1276200"/>
            <a:ext cx="82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e configur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17705-5021-4A44-B0D3-7CDDD4AAB5B6}" type="slidenum">
              <a:t>3</a:t>
            </a:fld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06800" y="5513400"/>
            <a:ext cx="794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5240" y="1751040"/>
            <a:ext cx="3687480" cy="118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1000" y="1305000"/>
            <a:ext cx="84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在弹出的窗体上点击确定，则可看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右下角出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66760" y="3049560"/>
            <a:ext cx="6458040" cy="3556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45320" y="6283440"/>
            <a:ext cx="772920" cy="403200"/>
          </a:xfrm>
          <a:prstGeom prst="wedgeEllipseCallout">
            <a:avLst>
              <a:gd name="adj1" fmla="val -35833"/>
              <a:gd name="adj2" fmla="val 3661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3B56D-DF0A-48B9-9BFD-C83892A541A4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4880" y="1903320"/>
            <a:ext cx="2109600" cy="3259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52480" y="1262160"/>
            <a:ext cx="7769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再次点击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菜单中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02080" y="2970360"/>
            <a:ext cx="1587600" cy="757080"/>
          </a:xfrm>
          <a:prstGeom prst="wedgeRoundRectCallout">
            <a:avLst>
              <a:gd name="adj1" fmla="val -72601"/>
              <a:gd name="adj2" fmla="val -5272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打开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winCAT PLC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2BBA2-1450-45EC-ADE9-234C7A6B2ACC}" type="slidenum">
              <a:t>5</a:t>
            </a:fld>
          </a:p>
        </p:txBody>
      </p:sp>
    </p:spTree>
  </p:cSld>
  <p:transition spd="med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52480" y="1736640"/>
            <a:ext cx="7826400" cy="4764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52480" y="1262160"/>
            <a:ext cx="73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定义变量，编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16CF6-0EB4-4B62-8E5B-918D045F31E7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52480" y="1262160"/>
            <a:ext cx="7378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build 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保存程序，例如保存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，文件命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62160" y="1981080"/>
            <a:ext cx="514656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1E788-5BF1-4648-8E6A-EA2AF2DA48B8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2480" y="1262160"/>
            <a:ext cx="73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tio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06640" y="1604880"/>
            <a:ext cx="48196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9106C-6AD3-4B52-AE7D-60EED093334D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52480" y="1262160"/>
            <a:ext cx="73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中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configur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 symbol entrie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点击按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 symbol file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2400" y="1973160"/>
            <a:ext cx="7153200" cy="4486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67200" y="2830680"/>
            <a:ext cx="739800" cy="649080"/>
          </a:xfrm>
          <a:prstGeom prst="wedgeRoundRectCallout">
            <a:avLst>
              <a:gd name="adj1" fmla="val -125749"/>
              <a:gd name="adj2" fmla="val -5318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打勾选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91040" y="4140360"/>
            <a:ext cx="417600" cy="392040"/>
          </a:xfrm>
          <a:prstGeom prst="wedgeEllipseCallout">
            <a:avLst>
              <a:gd name="adj1" fmla="val -224523"/>
              <a:gd name="adj2" fmla="val -170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2D1D8-189D-47D7-821C-57DAD9017DC3}" type="slidenum">
              <a:t>9</a:t>
            </a:fld>
          </a:p>
        </p:txBody>
      </p:sp>
    </p:spTree>
  </p:cSld>
  <p:transition spd="med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12-31T02:30:59Z</dcterms:modified>
  <cp:revision>363</cp:revision>
  <dc:subject/>
  <dc:title>Kein Folientitel</dc:title>
</cp:coreProperties>
</file>